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2CF48-1574-4732-A803-08415F236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ency in current mcount routine is being addressed with a new mcount (gnu_mcout) with slightly difference call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08C-A052-4CE9-A73C-2C3B1346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600" y="4542480"/>
            <a:ext cx="821988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9C4-2A01-4E27-97C5-53EF97E2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600" y="454248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4600" y="454248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AD8-CD94-411D-998E-C83AC83E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2160" y="160020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1360" y="160020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600" y="454248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2160" y="454248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1360" y="454248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582-88C0-4DBB-BA89-C0CED383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DBA-409F-48FD-A8AB-78ADD1E4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592-8330-4035-AF3B-2AEDF722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903-9879-45A7-9EC5-94B5438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86A-009F-46E4-A6DD-4BECB27D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2600" y="457200"/>
            <a:ext cx="821988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4FC-C8E0-42A2-92A8-2D12E982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600" y="454248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5E2-0A9B-4BB5-AFC5-0C359DA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4600" y="454248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B36-F344-4DEA-AF0D-64249311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600" y="4542480"/>
            <a:ext cx="821988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F42-5EEA-41D1-9478-97685CD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381400" cy="7772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>
                  <a:alpha val="6039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315200"/>
            <a:ext cx="10058400" cy="457200"/>
          </a:xfrm>
          <a:prstGeom prst="rect">
            <a:avLst/>
          </a:prstGeom>
          <a:solidFill>
            <a:srgbClr val="00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7314840"/>
            <a:ext cx="13986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7311960"/>
            <a:ext cx="5173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7315200"/>
            <a:ext cx="1211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B9D06-DE4A-4FA5-8E17-6BA17C65D9A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205740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1981080"/>
            <a:ext cx="85500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Function Du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F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08040" y="4952880"/>
            <a:ext cx="704232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im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y Corporation of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tim.bird (at) am.sony.c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1371600"/>
            <a:ext cx="2361960" cy="685800"/>
          </a:xfrm>
          <a:prstGeom prst="wedgeRoundRectCallout">
            <a:avLst>
              <a:gd name="adj1" fmla="val 4638"/>
              <a:gd name="adj2" fmla="val 123148"/>
              <a:gd name="adj3" fmla="val 16667"/>
            </a:avLst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0" anchor="t">
            <a:noAutofit/>
          </a:bodyPr>
          <a:p>
            <a:pPr marL="422280" indent="-317520" algn="ctr">
              <a:lnSpc>
                <a:spcPct val="66000"/>
              </a:lnSpc>
              <a:spcAft>
                <a:spcPts val="1426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On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put is human readabl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special tools required to collect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 tra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s EOF at end of tra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 trace_pipe | grep foo &gt;log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s at end of tra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ck enable/di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ho 0 &gt;tracing_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 Buff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_buffer_lock_r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omically reserve space in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_buffer_event_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t pointer to place to fill wit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_buffer_unlock_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 ev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_buffer_discard_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ard reserved data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graph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s function entry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relationship betwee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GREAT way to learn abou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unexpected/abnormal cod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function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long latencies and performan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the -pg option only instruments function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ing function ex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 ‘function’ tracer just traces function entry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apture function exit, a trampoline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s real return add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s return address with address of tramp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exit tracer, return to the real retur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 of Tramp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438280"/>
            <a:ext cx="1371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251460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19520"/>
            <a:ext cx="129528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5334120"/>
            <a:ext cx="12952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02920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20968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472428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563868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312408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20574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819520"/>
            <a:ext cx="1371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800600"/>
            <a:ext cx="1371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3600" y="1447920"/>
            <a:ext cx="153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514600"/>
            <a:ext cx="121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2280" indent="-31752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71800" y="22860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19160" y="4952880"/>
            <a:ext cx="177372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r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95480" y="2133720"/>
            <a:ext cx="157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18080" y="2971800"/>
            <a:ext cx="194436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r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4648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971440" y="2971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4600" y="2057400"/>
            <a:ext cx="3593880" cy="4114800"/>
          </a:xfrm>
          <a:custGeom>
            <a:avLst/>
            <a:gdLst/>
            <a:ahLst/>
            <a:rect l="l" t="t" r="r" b="b"/>
            <a:pathLst>
              <a:path w="2216" h="2600">
                <a:moveTo>
                  <a:pt x="2216" y="2352"/>
                </a:moveTo>
                <a:cubicBezTo>
                  <a:pt x="1404" y="2476"/>
                  <a:pt x="592" y="2600"/>
                  <a:pt x="296" y="2208"/>
                </a:cubicBezTo>
                <a:cubicBezTo>
                  <a:pt x="0" y="1816"/>
                  <a:pt x="220" y="908"/>
                  <a:pt x="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77520" y="1457280"/>
            <a:ext cx="246888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ad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ruct ret_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34120" y="4267080"/>
            <a:ext cx="137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05520" y="2209680"/>
            <a:ext cx="156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05520" y="2514600"/>
            <a:ext cx="156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7080" y="5029200"/>
            <a:ext cx="161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t 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952880"/>
            <a:ext cx="990720" cy="355680"/>
          </a:xfrm>
          <a:custGeom>
            <a:avLst/>
            <a:gdLst/>
            <a:ahLst/>
            <a:rect l="l" t="t" r="r" b="b"/>
            <a:pathLst>
              <a:path w="624" h="224">
                <a:moveTo>
                  <a:pt x="0" y="0"/>
                </a:moveTo>
                <a:cubicBezTo>
                  <a:pt x="116" y="80"/>
                  <a:pt x="232" y="160"/>
                  <a:pt x="336" y="192"/>
                </a:cubicBezTo>
                <a:cubicBezTo>
                  <a:pt x="440" y="224"/>
                  <a:pt x="532" y="208"/>
                  <a:pt x="624" y="1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88" y="1240"/>
                  <a:pt x="176" y="1232"/>
                  <a:pt x="240" y="1056"/>
                </a:cubicBezTo>
                <a:cubicBezTo>
                  <a:pt x="304" y="880"/>
                  <a:pt x="320" y="368"/>
                  <a:pt x="384" y="192"/>
                </a:cubicBezTo>
                <a:cubicBezTo>
                  <a:pt x="448" y="16"/>
                  <a:pt x="536" y="8"/>
                  <a:pt x="6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2286000"/>
            <a:ext cx="990720" cy="2921040"/>
          </a:xfrm>
          <a:custGeom>
            <a:avLst/>
            <a:gdLst/>
            <a:ahLst/>
            <a:rect l="l" t="t" r="r" b="b"/>
            <a:pathLst>
              <a:path w="624" h="1840">
                <a:moveTo>
                  <a:pt x="0" y="0"/>
                </a:moveTo>
                <a:cubicBezTo>
                  <a:pt x="88" y="12"/>
                  <a:pt x="176" y="24"/>
                  <a:pt x="240" y="288"/>
                </a:cubicBezTo>
                <a:cubicBezTo>
                  <a:pt x="304" y="552"/>
                  <a:pt x="320" y="1328"/>
                  <a:pt x="384" y="1584"/>
                </a:cubicBezTo>
                <a:cubicBezTo>
                  <a:pt x="448" y="1840"/>
                  <a:pt x="536" y="1832"/>
                  <a:pt x="624" y="18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286000"/>
            <a:ext cx="99072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cubicBezTo>
                  <a:pt x="128" y="20"/>
                  <a:pt x="256" y="40"/>
                  <a:pt x="336" y="96"/>
                </a:cubicBezTo>
                <a:cubicBezTo>
                  <a:pt x="416" y="152"/>
                  <a:pt x="432" y="280"/>
                  <a:pt x="480" y="336"/>
                </a:cubicBezTo>
                <a:cubicBezTo>
                  <a:pt x="528" y="392"/>
                  <a:pt x="600" y="416"/>
                  <a:pt x="624" y="43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by D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duration to thresh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ard function entry and exi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discard exi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don’t commi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ickier to discard entry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ng_buffer_event_discard() converts event to padding if subsequent events have been committed to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tes a lot o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ely constrains the time coverage for a 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Event Dis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, can’t discard events after other events are committed to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with duration filtering, if an event is filtered for duration, then all children functions are filtered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event” in buffer is always function entry for current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have to “rewind” one event, which is relatively easy  (and likely sa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rom optimized dis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76520" y="1523880"/>
          <a:ext cx="7164360" cy="4800600"/>
        </p:xfrm>
        <a:graphic>
          <a:graphicData uri="http://schemas.openxmlformats.org/drawingml/2006/table">
            <a:tbl>
              <a:tblPr/>
              <a:tblGrid>
                <a:gridCol w="1906560"/>
                <a:gridCol w="1295280"/>
                <a:gridCol w="1293840"/>
                <a:gridCol w="1601640"/>
                <a:gridCol w="1067040"/>
              </a:tblGrid>
              <a:tr h="1006560"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iscard 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uration Filter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otal Function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ime covered by 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ce event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8852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iscard_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292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39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7392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iscard_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10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29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6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iscard_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09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34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64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wind_t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295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39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7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wind_t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27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1.26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5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wind_t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28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9.44s 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6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838080" y="6629400"/>
            <a:ext cx="7543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†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 test only lasted 79 seconds—extrapolating the results yields a trace coverage time of 27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182880" bIns="0" anchor="t">
            <a:normAutofit/>
          </a:bodyPr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mount debugfs -t debugfs /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d /debug/tr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available_tr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_graph function sched_switch 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0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1000 &gt;tracing_th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function_graph &gt;current_tr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1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for i in ‘seq 1 10‘ ; do ls /bin | sed s/a/z/g ;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0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funcgraph-abstime &gt;trace_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funcgraph-proc &gt;trace_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unction Graph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220240" cy="50673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F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function graph tracing to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the discard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trace analysis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trac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ftd to analyz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function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“local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l time minus sub-routine wa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be wrong if w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an option to subtract time that function was schedul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ter, sort, select output columns,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td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917200" cy="5791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91440" bIns="0" anchor="t">
            <a:normAutofit/>
          </a:bodyPr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                          Count Time       Average  Local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 ----- ---------- -------- 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hedule                               59 1497735270 25385343 14766429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_write                              56 1373722663 24530761    2892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fs_write                              56 1367969833 24428032    3473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_write                              54 1342476332 24860672 1212301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_path_lookup                         95 1076524931 11331841   346821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link_path_walk                       99 1051351737 10619714    6702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call_sync                          87 1033211085 11875989    1700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_walk                              94 1019263902 10843233    34251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run_task                           87  960080412 11035407    2292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execute                            87  936049887 10759194    2316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rpc_execute                          87  932779083 10721598   113833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_lookup                             191  875826405  4585478    9510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_transmit                         100  785408085  7854080    58713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nfs_revalidate_inode                 38  696216223 18321479    1652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fs_proc_getattr                       38  690552053 18172422    1234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head of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substa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function duration = 1.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head = 18.89 microseconds pe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 used was CPU-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/sys &gt;/dev/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I/O bound test, ratio of overhead to average function length should be much 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head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2960" y="1600200"/>
          <a:ext cx="8219880" cy="4386240"/>
        </p:xfrm>
        <a:graphic>
          <a:graphicData uri="http://schemas.openxmlformats.org/drawingml/2006/table">
            <a:tbl>
              <a:tblPr/>
              <a:tblGrid>
                <a:gridCol w="1644480"/>
                <a:gridCol w="1643040"/>
                <a:gridCol w="1644840"/>
                <a:gridCol w="1643040"/>
                <a:gridCol w="1644480"/>
              </a:tblGrid>
              <a:tr h="109764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cer 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Elapsed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Function 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ime per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Overhead per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2188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CE=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9.25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91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72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.30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92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05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33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Graph disab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9.85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98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.22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50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Graph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2.15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29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.61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8.89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map and 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line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M function graph tracing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ntly rejected – back to the drawing board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use functionality to improve boot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kernel b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s for using ftrace in early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ilability of clock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c(?) definition of trac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location for tracing (optimally start_kernel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ization of ring buffer and tracer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uld be nice to do at compilation time, but that’s ha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76456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trace tutorial at OLS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people.redhat.com/srostedt/ftrace-tutorial.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deo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free-electrons.com/pub/video/2008/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s2008-steven-rostedt-ftrace.o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orld of Ftrace” at Spring 2009 LF Collaboration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people.redhat.com/srostedt/ftrace-world.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ches and tools for this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elinux.org/Ftrace_Function_Graph_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 to F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2636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Ft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tim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e 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graph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Ftr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trace is the first generic tracing system to get mainlined (Hurray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lined in 2.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rived from RT-preempt latency 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a generic framework for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rastructure for defining trace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register different kinds of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ized data structure (ring buffer) for trace data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FTrac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points defined by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s to trace handler written in 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ally inserted by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gcc ‘-pg’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erts call to ‘mcount’ in each function pro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maintain – no source code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practical way to maintain 20,000+ trace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2960" y="453960"/>
            <a:ext cx="82231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count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ount’ is called by every kerne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pt inlines and a few spe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be a low-overhead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ompatible with some compiler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cannot omit frame-pointers on AR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iler disables some optimizations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 with ARM EA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mbly analysis indicates that mcount callers have well-defined fram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c n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count routine (_gnu_mcount) is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de to Call m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4495680" cy="3048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rIns="0" tIns="9144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70 &lt;sys_sync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0: e1a0c00d mov ip, 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4: e92dd800 stmdb sp!, {fp, ip, lr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8: e24cb004 sub fp, ip, #4 ;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c: e3a00001 mov r0, #1 ;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0: ebffffa0 bl 408 &lt;do_syn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4: e3a00000 mov r0, #0 ; 0x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8: e89da800 ldmia sp, {fp, sp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9200" y="2285640"/>
            <a:ext cx="4648320" cy="3048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rIns="0" tIns="9144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70 &lt;sys_sync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0: e1a0c00d mov ip, 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4: e92dd800 stmdb sp!, {fp, ip, lr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8: e24cb004 sub fp, ip, #4 ;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c: e1a0c00e mov ip, 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0: ebfffffe bl 0 &lt;mcou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4: 00000028 andeq r0, r0, r8, lsr #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8: e3a00001 mov r0, #1 ;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c: ebffff9d bl 408 &lt;do_syn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0: e3a00000 mov r0, #0 ; 0x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4: e89da800 ldmia sp, {fp, sp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429000"/>
            <a:ext cx="4495680" cy="6858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setup at run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-files in debug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mount debugfs –t debugfs /de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 a tr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echo function_graph &gt;current_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trac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echo 100 &gt;tracing_thresh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ho funcgraph-abstime &gt;trace_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Data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ized structure for collecting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s buffer as list of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st version is lockless fo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ility to atomically reserve space for an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ic timestam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-cpu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oids requiring cross-CPU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avoids cache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important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9-07-16T20:23:03Z</dcterms:modified>
  <cp:revision>24</cp:revision>
  <dc:subject/>
  <dc:title>Slide 1</dc:title>
</cp:coreProperties>
</file>